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FECCD-2195-4C2E-934C-D074CD6D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14DE4-D5F0-46D4-A23D-C6AC1FDF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3563D-7A75-4B53-8570-F6F81869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C351-8F06-4A6C-8E72-1D35C32A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E2C1-152C-456F-8206-1F4C6BBB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2494-06D4-4964-B3EE-46568492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9CA9-CC0F-4106-9449-B967A73F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BB7A-E51C-4889-AE42-7CF44463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EE87-F9C8-4C78-BAA6-CDD80AB3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F4C6-8B30-4252-BB3D-AFED6A6C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49DC-DA7D-491D-B8A7-A17C032B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B2B0F-6A65-4F30-A0C4-93F5642D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21DB-D489-43A3-9337-6B1DF883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D4EE-0B3E-4A7F-95ED-9DAB3946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432A-6E14-4FAB-85B3-FBD5CC86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C18A-43D8-46FE-8A25-EB8978D5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5E78-9D9B-49C6-A86F-B9984FE1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DA8E-F97A-4C6A-B434-4AE72B4F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885E8-8495-40B4-B5BA-238E7617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F0C9-AFAB-4AB6-AFB0-9B967F6B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2558A-E598-4CC5-B47C-25ED684E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9304-6C25-4C92-93EF-737C60A2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98D62-6524-41F9-8272-2B626180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162B0-4D5F-4367-AD20-72AC3ECD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D83D-3358-4142-8ED8-CE9B077342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C6EE-1252-497D-8C5E-3691CC2920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OA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: hoard :: ______ : 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tle : amphibian :: _______ : mam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sh : school :: _______ : 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b : bear :: calf : cow. What is the relationshi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 : change :: ________ : sca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llar : currency :: ________ : fl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_____: _______ : : ______ : ______. Write your own DOA, explain what the relationship 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OA  correct answ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: hoard :: criticize : compl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tle : amphibian : : human : mam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sh : school :: sheep : flo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b : bear :: calf : cow. What is the relationshi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b is a baby bear, calf is a baby cow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 : change :: climb : sca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llar : currency :: rose : fl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_____: _______ : : ______ : ______. Write your own DOA, explain what the relationship 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DOL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xico City as well as other large citis of the world are growing to quickly for its citizens to set back and do nothing to remedy the probl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of the worlds largest citys are facing problems garbage and sewage is hard to remove and food or water are often in short supp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body who has had hypothermia know that speech and coordination is usually effected by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of the books that is laying on the table is suppose to learn you somet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oad lead me to a quiete meadow and I lied down and rested there without knowing to who the field belong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OL correct answ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xico City, as well as other large cities of the world, is growing too quickly for its citizens to sit back and do nothing to remedy the proble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f the world’s largest cities is facing problems: garbage and sewage are hard to remove, and food or water is often in short supp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body who has had hypothermia knows that speech and coordination are usually affected by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f the books that are lying on the table is supposed to teach you someth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oad led me to a quiet meadow, and I lay down and rested there without knowing to whom the field belong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ocused Freewrit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you are a married adult and your spouse has gotten the job of their dreams. The only problem is that you will have to move overseas. S/he accepted this job without even discussing it with you. What would you do, say, f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/15 min today.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ocabulary Review 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ite correct or incorrect for the follow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resident of the U.S. is a despotic rul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oney you pay for a car is tui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robber might have a cach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loud, boisterous student was reserv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rincipal commended the student by giving him a deten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ur won best in show at the dog judg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was so happy to see my grandma that I had a dispute with her right awa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was so lonely in class because a multitude of people were gone due to illnes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urch had a beautiful, golden por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tudents were out of breath and jogging at a nice stro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Exercise 2-Match the word to its synonym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po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or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e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rf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w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isurely 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rann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Exercise 3-Write the correct word that would go in the blank.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was a _______ of people running around the sch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book the robber had a _______ of diamo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d a _______ teacher our first year of colle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ease ________ from talking so mu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ncrete ________ was supposed to be strong enough to handle an earthqua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____ wouldn’t hunt, so the owner put him to slee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felt sorry for the _______ stud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riminal’s _______ was completely different than the victim’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didn’t _______ that my mom was in a bad m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ip was flying a _______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21:07:18Z</dcterms:created>
  <dc:creator>rebecca</dc:creator>
  <dc:description/>
  <dc:language>en-US</dc:language>
  <cp:lastModifiedBy>rebecca</cp:lastModifiedBy>
  <dcterms:modified xsi:type="dcterms:W3CDTF">2009-01-09T19:51:37Z</dcterms:modified>
  <cp:revision>4</cp:revision>
  <dc:subject/>
  <dc:title>DOA </dc:title>
</cp:coreProperties>
</file>